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3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7.xml" ContentType="application/vnd.openxmlformats-officedocument.presentationml.slideMaster+xml"/>
  <Override PartName="/ppt/theme/theme29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4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theme/theme15.xml" ContentType="application/vnd.openxmlformats-officedocument.theme+xml"/>
  <Override PartName="/ppt/theme/theme16.xml" ContentType="application/vnd.openxmlformats-officedocument.theme+xml"/>
  <Override PartName="/ppt/_rels/presentation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7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</p:sldMasterIdLst>
  <p:sldIdLst>
    <p:sldId id="256" r:id="rId33"/>
    <p:sldId id="257" r:id="rId34"/>
    <p:sldId id="258" r:id="rId35"/>
    <p:sldId id="259" r:id="rId36"/>
    <p:sldId id="260" r:id="rId37"/>
    <p:sldId id="261" r:id="rId38"/>
    <p:sldId id="262" r:id="rId39"/>
    <p:sldId id="263" r:id="rId40"/>
    <p:sldId id="264" r:id="rId41"/>
    <p:sldId id="265" r:id="rId42"/>
    <p:sldId id="266" r:id="rId43"/>
    <p:sldId id="267" r:id="rId44"/>
    <p:sldId id="268" r:id="rId45"/>
    <p:sldId id="269" r:id="rId46"/>
    <p:sldId id="270" r:id="rId47"/>
    <p:sldId id="271" r:id="rId48"/>
    <p:sldId id="272" r:id="rId49"/>
    <p:sldId id="273" r:id="rId50"/>
    <p:sldId id="274" r:id="rId51"/>
    <p:sldId id="275" r:id="rId52"/>
    <p:sldId id="276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" Target="slides/slide1.xml"/><Relationship Id="rId34" Type="http://schemas.openxmlformats.org/officeDocument/2006/relationships/slide" Target="slides/slide2.xml"/><Relationship Id="rId35" Type="http://schemas.openxmlformats.org/officeDocument/2006/relationships/slide" Target="slides/slide3.xml"/><Relationship Id="rId36" Type="http://schemas.openxmlformats.org/officeDocument/2006/relationships/slide" Target="slides/slide4.xml"/><Relationship Id="rId37" Type="http://schemas.openxmlformats.org/officeDocument/2006/relationships/slide" Target="slides/slide5.xml"/><Relationship Id="rId38" Type="http://schemas.openxmlformats.org/officeDocument/2006/relationships/slide" Target="slides/slide6.xml"/><Relationship Id="rId39" Type="http://schemas.openxmlformats.org/officeDocument/2006/relationships/slide" Target="slides/slide7.xml"/><Relationship Id="rId40" Type="http://schemas.openxmlformats.org/officeDocument/2006/relationships/slide" Target="slides/slide8.xml"/><Relationship Id="rId41" Type="http://schemas.openxmlformats.org/officeDocument/2006/relationships/slide" Target="slides/slide9.xml"/><Relationship Id="rId42" Type="http://schemas.openxmlformats.org/officeDocument/2006/relationships/slide" Target="slides/slide10.xml"/><Relationship Id="rId43" Type="http://schemas.openxmlformats.org/officeDocument/2006/relationships/slide" Target="slides/slide11.xml"/><Relationship Id="rId44" Type="http://schemas.openxmlformats.org/officeDocument/2006/relationships/slide" Target="slides/slide12.xml"/><Relationship Id="rId45" Type="http://schemas.openxmlformats.org/officeDocument/2006/relationships/slide" Target="slides/slide13.xml"/><Relationship Id="rId46" Type="http://schemas.openxmlformats.org/officeDocument/2006/relationships/slide" Target="slides/slide14.xml"/><Relationship Id="rId47" Type="http://schemas.openxmlformats.org/officeDocument/2006/relationships/slide" Target="slides/slide15.xml"/><Relationship Id="rId48" Type="http://schemas.openxmlformats.org/officeDocument/2006/relationships/slide" Target="slides/slide16.xml"/><Relationship Id="rId49" Type="http://schemas.openxmlformats.org/officeDocument/2006/relationships/slide" Target="slides/slide17.xml"/><Relationship Id="rId50" Type="http://schemas.openxmlformats.org/officeDocument/2006/relationships/slide" Target="slides/slide18.xml"/><Relationship Id="rId51" Type="http://schemas.openxmlformats.org/officeDocument/2006/relationships/slide" Target="slides/slide19.xml"/><Relationship Id="rId52" Type="http://schemas.openxmlformats.org/officeDocument/2006/relationships/slide" Target="slides/slide20.xml"/><Relationship Id="rId53" Type="http://schemas.openxmlformats.org/officeDocument/2006/relationships/slide" Target="slides/slide21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7E31D-036A-4D9B-BB79-2658E496A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112E3-C90E-4738-BD16-F1531E744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5C793D-C19D-4502-9BE1-D4F361F93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38D177-59F0-4103-9146-E36E8D040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FDBD29-12BD-419B-A19C-5092B23E8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265A8C-19C2-4219-A383-0604E3C37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DBF92D-5C46-4742-8D5B-36A8DF893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1697D1-4909-48EA-B13E-B0C0E7C75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957602-7D76-44C9-BC05-860086A4F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E768B0-D54B-451E-8301-9F76863C8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61282A-E5BC-4F39-8177-0B805937C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1AA9CC-566C-4882-837F-4F3DC17FD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451D8-2086-4399-9802-B8B48D5DD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555180-007A-453A-8EBD-98B53D84E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017B7A-B749-4682-842D-28D919FBC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A74940-020F-4136-B229-B8B014C38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DAF018-9C6D-4730-AB6C-1774177D1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17EE2A-3F2E-4B2C-96F6-5C76BB792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9F0007-0F6A-4EB0-9A8D-7758E63CD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7F7940-2374-4A5C-A1A5-D69DF2086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4B30E0-6BA2-421E-BB84-39B19CFAF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D57E15-B697-4954-9FB3-C04766CA7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CD6F2A-0BC9-4C95-A1BC-8903AEAC9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59C8E-811E-483F-BF2F-A5BFC4229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636EB8-EACD-46E6-ADA2-957FEC458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E92040-29D4-4044-98D3-1B504FA42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FB85CC-6036-49D7-9ED2-8F095CEE6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A2F6F1-3EE2-4172-96B2-091FBC19E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0997D4-E5B1-4EBD-97FC-3DD181F12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8063B1-89EA-4253-8D9D-09F787B68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607FEF-4D26-463B-9A23-DBBF2305D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003C60-4837-4A5E-9F1E-4F157F9F7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A980EC-9FE5-4627-A2DA-3D0A5A951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632202-9A24-426F-A6D0-FC76B35AF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B6AF3-5F8C-4011-A66A-B8A9DCB8E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FB2128-B553-4235-B7AA-48AB83C62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71AA6E-8F6A-4924-AF5E-2C2EEE726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47EA42-CB27-4B13-99F6-2CCE32DBD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8C801A-9C74-45A7-82CF-E0E14505D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EC8F9D-2DA4-443B-8983-C34F17219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239FCF-019B-4CD6-91CB-FAE5B044D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779E38-49DC-40D7-9E3F-B06C5D6B1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E4192E-11B2-4730-A5CC-7F63A7307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9AC967-8377-43C2-A0B7-2474970A0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224780-7833-4768-B832-75244B0C1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B5826-A7D9-4692-86FC-050BC5AC1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F3D8EA-4F65-4449-8D5C-A04883CA2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AC757A-A8DD-4F4C-9A80-7551FC145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7FF497-AA18-41E5-8771-1E3AB70F1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57BCE9-D039-4246-AE61-178243BCD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AB1E89-A78A-4ADF-8D86-B37EAA9C7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568CDFD-F6DB-4F5F-8282-55CBFAB82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D0BDD69-35BF-4C42-9B0E-F31C14152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18B415E-71FB-407D-AC13-B1D661371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CA2B93C-9201-4F2C-AD83-56D724476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043D800-E00D-4EA8-AF3F-2E33F9B0B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E3C28-AF80-417D-9F41-E4A87C316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6F84562-9191-425A-BB97-C0ED1CD1C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8F44A81-87C8-4A5F-86BB-8B5566C9B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6BDE6BF-6FFC-4763-8EEE-BB417CFF2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7E74901-376B-4FBE-937B-AA9BC8D1E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64C87FC-78A2-4040-A802-705821711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89C39FB-4E5E-47DA-998A-FEFEBB763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E18BDC0-2871-45F3-B969-06E997942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FE31990-2B0C-4678-8792-654A24744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F97628D-6E28-4880-AB2F-713782440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B45E0E4-F84C-4843-A78D-B7A414789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0EEF6-315B-4754-8F7A-78C8D9151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39FEF58-B338-418B-B9B0-0D5B01764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45C8657-B749-43F0-9F82-7009D0B3F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11C6E45-8867-4A07-B3A4-E6E20591B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5628C8C-1B08-4A15-8529-E16877D1B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4C0B931-8737-4F9B-A5F4-21F7FBACF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9909E1F-459D-469E-B3C7-2233BF888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B1F25CF-AEFB-42A6-A935-5F55E9567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3B82615-7171-4FBF-80D4-142ECA679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BAA86A5-4656-455F-81B2-22F87B914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018AF08-24EB-4EE2-B316-5AACF4DB7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407AD-A998-4616-95A4-4AB455F07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051024B-A26D-4D12-A67B-110AA8507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69EB70C-1F96-4073-8683-CAB53238C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ABFA250-1440-4455-BEFD-7FA16A50F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B6A822E-D3AF-4C20-A3C9-B02146A12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CDF3DCC-9762-4E6C-9DFF-CE6F10FF8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4F93DD8-CB8C-4D7D-9251-5DEE42C7D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5202B6E-D7F2-4952-B972-5565E4EAE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FD31843-BB89-46AF-AC5D-A4A52C294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25880AC-E1FA-4A4D-878E-DA078484F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D72B304-5BAB-4EBB-8730-9D02FA75E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7094C-E748-4C68-9165-0E707ED4F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A292D4D-D68A-49C9-96C9-35E2978A0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12A005A-5323-40BE-8755-039ED4BE5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993579C-3857-46BE-A6D5-A5BC468B5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7A214C5-C307-4637-9891-AE63190B7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B0F6D99-A831-4A4F-B48B-05C796392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6117CBC-8C0F-4EFC-A0B3-195098766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690D977-9709-4A00-BC12-82B2B9220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647CAB6-3931-46C2-8FC1-7E5553D88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1D1C9FA-4F0D-4FF1-BB82-2E099ADED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3E446F6-9A4E-4E5F-AED8-45CAAD007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3CEC2-CB91-4206-83EC-69B4D6C70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EF34433-5D02-4CAF-BEE0-F2E6E7BF1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D42BEB0-7CF4-451F-9FA6-ED6DCC616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E50DE03-0F47-4882-A245-0B78819B1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5E28C43-1422-41DB-9C14-4777FCD64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15C8FE7-8120-41F7-8AB9-D944E4297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3417CCD-F0C3-47D9-AB27-BD825B339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3637D80-810D-4D57-B900-3BA061175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79EB2C4-7F0B-43C7-9669-642D973A6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108F079-808C-4E35-A298-67BF04B5B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B90C678-E5B0-48CF-A1E5-F6E780064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F0912-F960-42B9-A34C-9A7DBC8BE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3E951-7519-438E-9A75-40E349129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F841389-7399-41FC-A561-0CB60BB11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E87B05F-EDA5-49CA-BAAE-3E912295D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76431E8-47EF-4567-B3D6-46741EFB2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5E9030C-0498-4D9C-98FB-1E82AC397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C6EBF0A-3D37-4DEC-BDF6-648C693E3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1B341A0-7396-4986-9BA8-8B3B06E1E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8853EA3-F612-470E-A5CC-0F8BD82EA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9BCA085-BA7B-4F19-AA17-7DAA136F0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E35E2AC-06D3-442C-9A30-5B9F36878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352346F-1733-4855-88A5-3E0C4FC91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230DA-2CFC-4437-A9AE-B000B8B4F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31348EE-1EC3-4CF1-B574-16F05E65D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D084D21-C903-433C-B56A-7C7BA18BA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D887A98-4938-4845-B98B-8A96D470D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034A79C-90AE-4E6B-95F3-1DE1403BB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8CB4617-0729-4D75-ADC9-B1DA6C2A9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C376C33-2809-44CE-95FB-3AE4B2256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9194DEA-1E4D-4C03-8399-55568BCDF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CEEA93B-7C52-4128-8082-4021318FE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791E2AF-4BAC-4F13-AAA0-B04EC9EA1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A095D14-4414-44B1-B728-B21D4A410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C6EEA-BF89-46E5-BEF8-E54225347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0CF0E23-5B5D-4C23-8CAC-B4497E5CE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923F695-F137-406B-AAB3-659324CFA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E7F4E52-2221-468F-83C5-288742FFA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DBFC7AA-46A9-474B-84AD-CEF8E9750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3270442-8692-444B-BAA7-6B131B28E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ED8FE64-2934-4E98-9BE3-2EEB63837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64A0331-409E-4862-B45D-E44F191FA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E782D9C-9CB9-47CE-80CB-7C6E1169A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7483F5B-4CBC-48AF-9F55-AD433041A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4AA522A-7D9A-48AA-A7A1-4A2DC943C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D628A-B0C3-460A-B16C-5FC9DD4D9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6587BCB-2316-4CCA-A3C8-DE2525E36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FD08C20-E5F2-41E4-89FF-C7B39F549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7883C2D-DF8C-4148-BCEB-DA37234CD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2A63402-F373-49B7-A243-BB6020E92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5FB6EFD-E22C-485B-9B89-596493C35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1E0CD3F-C222-4807-AD9C-A14B032C6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0E1C22D-0384-40C1-A0A2-AC0881214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A27656F-C8D9-48DB-B725-2BAE93A36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6A065AA-B45C-4E74-83FF-F85767679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7BE2F37-5BCD-4938-8B56-FFAED0C7F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5935E-645E-4033-9BF5-7AE8CA121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05C89C3-E9FB-45E3-A445-12D4C5197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0DF41D3-E05B-46AF-801D-94AF5E930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2B483F9-9268-4923-9290-CE911EEB3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62F1AC2-3E24-45CE-AEE1-1F5612A15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9ACFB52-DC0E-47AF-99BC-5835CFC12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941F3EF-8080-41C6-8B58-C406342E8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233CA16-8069-4BF0-B244-14B148F78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1E01A8A-647F-48C9-96AA-2DBF00F3C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0A488CE-F347-4F4F-8FF5-FF1554738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8C380CE-1120-4CDB-BFDD-FB5838275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E14A77-3F89-4F90-8C4A-7F5A2E3DD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62ED230-9FD0-46F3-B037-347D031CA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9C1E896-ADA5-4955-B76A-B8C7C3FE4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F39A3AA-A8B6-40EC-BDBE-8247A412F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CB4762E-DF46-4509-84F4-F102BBE85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02BDF9A-E8C7-4CEA-AC23-05EBBF677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6FEC495-CA6D-4E9F-A2A8-75455E15C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60E82E6-A55A-4C5A-B333-5EF864740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DB3E32D-240F-4C98-A304-C4B20C358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5082A2C-3677-4673-A029-4C3A01203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E7F6DCF-220B-44E3-B249-4CAE2E41A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2431F0-1953-48DC-8DAF-06D325FB4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9362632-80C3-47C4-A8D3-1AE9050FC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A8C1DA6-F344-4A31-90A6-AF5ABC269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FE585CD-C2E4-415D-BB3D-B64CF459B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0C347C9-D67A-4191-9F8F-CB3D3F175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651547C-9CDA-4A7E-A328-9880C4440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3813B7E-4EA8-40C2-B31B-751DAFCD5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A88AA95-FBAA-4C2D-AE85-B55B0C026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6EF6786-36FB-4BAF-A9AE-5F09CA88B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A28122A-8CD2-4C75-B053-1B0A294B7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C8E093B-4C32-4D79-85F6-AB8400E43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EFFDC2-C5B6-4DE4-8DC6-9F605ACFB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B721F80-56D3-497B-9E18-6086A17BC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5FD7C5B-CDCC-4E95-AFBE-2BA76DECA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7E510AE-669B-476B-9BEB-D470DE147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B7E81D3-758E-4D10-8B64-03D104722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67A56A3-6AE6-4336-AACF-4A2A9D8C7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684FD97-77E4-42E9-8C95-60D046588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836D91D-7A18-4C96-B78C-A5BC5CF8E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1C758D8-66AE-4E6D-A952-28EFD9860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59A4910-D60B-425A-8A03-3EF2D415B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C4A1EA9-E79A-4034-9222-B1D0A97C3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16C081-F4D7-4F6C-99E5-2473C78DD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993F171-B12F-48EF-80F8-6B2ACD3C7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1E0B0E0-FCCA-4191-987B-CF43EF368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3BD2C4D-1A9B-4535-8142-2385E32AF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DFE96A1-861F-495C-94D2-53160F25F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EE799B8-EE66-48D8-8D2D-F66286A54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13241F7-0D9F-40AB-A36A-0EE5D2A61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B5C5AA6-81C6-4EB3-B09C-7651BFA00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B94A094-A0EE-4242-9296-BC4744DF7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A06B317-B3AA-460D-BF57-3CDD49C51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B5FB83C-6749-450E-BBA6-C9900B637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B36871-6456-42A9-9A06-98778CEC9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2EE9E4E-22C5-4A0E-8460-6943C2CAA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1ACB733-6097-4CE3-877A-5D636834F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A054C0A-F030-4108-A41C-7D24344DF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ECB210C-AA7C-40FB-9F88-6005B5A93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60EDE0E-3244-4FE1-A9AC-560FB3B91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52BAB0A-0D08-4C0E-83C8-6DA39AE30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CA04941-7B7B-459A-B557-57E360509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6EBD284-D968-43FE-AF16-D0208BDAD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4767719-76F5-4E52-9E57-8C725D332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B1F8352-BDC3-4B64-908E-F5F39417D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B883C-9590-4C24-B2BE-AF0365BC0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7A445B-E93E-4A06-BCE6-83F049BBA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7A4C932-6629-4196-B3D4-9933CA55B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1C8CB3A-3716-42C0-8D7A-1F7FC4F09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CC96285-79D1-4AB6-8D39-0D7013499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AF25C9C-881A-42DF-A1FC-A6866834F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4DE4F20-DE04-4724-9BBF-13566560C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8A6FBEB-01B0-49CD-A8BF-838E4D3F2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6417B7B-96BC-4B92-84CC-43B6BF53F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FA2A461-AA14-4CCB-99A4-5D3799169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A6841BE-A6E7-487B-B39D-3B817D5B2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F5B293E-D5E2-4A7B-BF4B-D9F1E0EAB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251883-AB8B-4290-AA59-58B15277E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B563F35-0F4D-468E-81C6-F79AA2546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9BB5D9F-DC32-4D8E-B936-B571A2789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4FE4A1D-BEDE-4067-B8B7-2BBEFA6C5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B55A39A-CC87-4FC7-AAA4-B3F47791F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6D6FBF3-E808-4BB5-815D-40E7D0A43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45C130F-8782-4E53-BC72-16FCDEDB7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8CB8EBA-5AD7-4B97-9EC4-1B4011A27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D0BF74B-51C2-4EEF-A129-A72F3FB0A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C0B5A38-60E7-4D57-9A10-75A2D75E3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7130C13-7C71-4E17-9965-6B6092E26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75608A-BE77-4FBD-8EBF-7C6E193B3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4828C59-B294-4803-AC79-C8B219E4F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E1D72B0-8C4D-44C1-BA79-714B5BEEC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E363E3D-E584-45C3-B721-8C4BF8D07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BBADC96-F105-400B-8600-4EA48837F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A722CE5-4F65-49B8-B061-904FFB3AB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77F4BBA-4F5B-4CDB-977B-B8CFA5E26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FE15486-F45A-44A6-B744-D8654C158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882AA63-739B-457A-8ED2-01629064F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9CC0CFA-BE95-49DC-B37A-740B4795D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20F5651-0289-49EA-B4A0-4764D288D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6986C7-019D-49F7-A710-334D8C64A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7B40AA8-725E-4167-9C2A-68470844B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7CAF6A8-0D78-4F7D-8895-6A633DDEC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2EBFCC5-9F79-4F5D-A006-A41761B8B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2164DAD-5092-4BE9-B589-0B3C7AB91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245F2D1-D844-4922-9BC4-C9D55EF67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8D8E253-1575-46B7-9ECF-44A5661B2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6DFE2AA-BDD1-457E-BAF8-00C4063D6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5D2233A-DDAA-46B8-8C76-934BCEF9E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753E22A-8746-438F-87D4-1CD34C191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42A03CB-8050-4BBE-A0CC-FC5C81EF4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594C51-9C28-4EF5-AF92-33D77B5B5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C7A6B98-6B99-4229-A17B-728FB03BD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3C8F859-5E84-44DD-872F-B59D42B41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496C248-5628-4C24-BE44-FEC9F54D7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43D1635-EFE9-4887-B685-0E6AA34D2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1B11DC7-5D63-405C-9E24-99428C194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3558A2F-6805-48CB-878F-ED3D75A80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60DBB2E-6F17-47AC-AA5C-2CAB94603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41B4A33-5CE9-4784-94F2-1A3666813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D0B497E-78FD-4EDD-9AAB-E2AA29F7D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4DB2B8C-2BD8-42B0-8A1F-4ABE5E2AB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B1717F-7D99-4D2D-A318-F7B4D17FA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F6BC7BF-2641-46BD-8C51-05CD3FF34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80DE73E-15A5-47B6-B248-8BFB29005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3E3C7EA-BB72-4B98-828F-3B441D58D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81D43A1-BC6E-4B7C-8FE0-221DEF94F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5E571CC-5357-43C4-AF4F-058644707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5CB6535-BBA6-4F46-A5C0-42EAA5AFA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F799311-92D0-4267-8BCC-648BDD84D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9DD8DB8-F775-46B8-92AD-21C343D54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C831361-4489-43DC-A96A-803378E7D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0650995-5F6E-4DFE-B76F-15193A587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040184-E9C5-464A-9570-368E75A12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DA01C36-7956-4032-82D1-5E1A33CFA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D930BF2-4A20-4B47-8D43-4A397C7D8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B6238A0-EAB0-414F-92FF-75B08848B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6DB25CB-CDFF-48EE-B113-FD02D40BE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A8039E8-D053-48BD-B6CB-0BB42BB41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C1DB064-8A10-48CE-910E-E1527147E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A1F3F25-C1F2-4331-BDDD-B5E8B4C18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EA8B061-0DCA-454F-954B-1FFDAA3E7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C885A9D-37FC-4823-BE5F-822855556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B4938CF-850A-4EA1-BAC1-DB27F4F6F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1C9E3C-7041-49EC-BC1D-649C30315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36AEDF2-CF0C-4B4D-BA1A-343DE067B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8359F3A-AB80-44EF-9C0A-EE5C60D2A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40E479B-5BF4-412E-9217-DEB695628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ABCFBD-A106-4A2F-B16F-607FA95CB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63F3D7-7346-4EB0-AADB-30C234383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87C0A-4899-42AE-B337-56D27EA1D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722C7F-4B96-446B-9281-9A00E049F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922509-1B51-4EBC-BE9A-AF6793287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2700E6-E896-4BDB-955F-602F4AF9A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67B855-A462-4059-A337-94E473054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19DAB0-59EE-47E9-A4E2-2E53BDC35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A287DC-0F6D-4109-BFD5-C3966D768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FFAEE0-8094-4785-B5BE-C2C19736A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82B432-E200-4EDF-8EBE-991260393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5A5F2F-B213-487D-B788-D41AC405A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6C8CD8-B755-47F4-BBDA-8CE1245E5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60BA5-69DF-4D60-982A-384F67E85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7A3A76-F675-407D-A860-7D2D1A44A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C979AE-580E-4C79-B7E1-2DFA3579C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22F7F3-E8CF-48B5-A25F-57A00A971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AD221B-2C67-44B7-8A34-2D3FC9365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EABAF9-2BB9-4DDA-84CE-5F016F38E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D6115F-3015-43CC-99BD-C6C36CE92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08BB46-880F-4F4E-9F73-0A232504F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5C84F4-63D0-415C-9F4D-9AB9B7F4F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8FE494-B089-47B1-9761-F6D8D7EC5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B7622E-FCA2-45F2-8A3D-E4CC8CB94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9AE9E-82B1-40D7-9925-FABA9F1C4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44FB53-3506-49CC-847D-D21446F55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0A8BEC-F7FF-4823-A320-2E281B958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2D7CD1-DA9A-42F6-AEA1-36896E6DE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1991BF-AB9B-4C08-B5DA-D53231749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EF3E23-04EA-4F54-8987-473B7000A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7A0555-0E28-4144-95D5-FE81EE6AD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14565E-92DE-40C7-8C00-B40D9F4EB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F0D63F-F193-4944-8734-0C8520BC6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D97E8E-F5BB-4AEE-8CD9-BE9C2C0C1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2DBB11-1EED-4C3D-8296-1D6FE0261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0DC02-BD61-4052-BB89-E5925D1A6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177440-8D92-4859-9755-84F622D96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35C8B4-1C06-481A-B674-411FEAB87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8F37C9-865C-4F84-8211-BA5F27DC6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00D2D8-F695-477E-A72C-1FBE06954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9707A6-B272-40D5-A2DC-2EEC47630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2BDB5D-20F9-42AF-9C62-32D2BC6C7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FC062E-E7E3-4C5C-90FB-F84BCA59F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6B5473-7B82-4141-BA03-FCA065864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6EB97D-5B4C-404A-ADA8-DD5051C95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EA42DE-ACB0-4AB2-AB05-C4FB863CC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15410-00B4-45E8-9DCC-B0B9F48E6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F6B134-CA1C-4464-8421-6A1C9C4C3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CDB303-BE5E-4975-8409-126801D97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7FEFA1-F82F-4AFB-A1E2-58AF592CF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4C47FB-2604-41F8-9D39-B1328FFFC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B08285-850D-4E10-B767-99CCDA672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113B39-94B6-4B7A-B8E3-CE6B98247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0741D1-4583-4D73-989A-A05A973D4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182240-D132-4AE4-BD2A-8EB54148B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4B76C0-C0BC-4803-8E05-1D9FAC3DF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599E9F-6666-4EA4-8FF0-05BCEBB19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88286-658A-485A-A659-1B4008EBC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CD4C07-08EE-4A3A-9974-799D29B10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0C412C-0F27-4804-B95B-2412D1AF3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2FB959-0933-4F17-856B-B5690BDEB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721631-9709-49FE-9DF0-268145727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01C140-628B-4F4D-A699-DCF6328C6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1B6A59-789D-459E-A545-6D8F09CCD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1D0220-ADDF-44AC-92D4-01D33A92D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5B8AE9-09AD-47B5-A1A4-EF421BA15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43CBC2-50E7-4E18-89C0-D7A648AC4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592441-F6CC-4027-90CA-CADD2AD80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217.xml"/><Relationship Id="rId8" Type="http://schemas.openxmlformats.org/officeDocument/2006/relationships/slideLayout" Target="../slideLayouts/slideLayout218.xml"/><Relationship Id="rId9" Type="http://schemas.openxmlformats.org/officeDocument/2006/relationships/slideLayout" Target="../slideLayouts/slideLayout219.xml"/><Relationship Id="rId10" Type="http://schemas.openxmlformats.org/officeDocument/2006/relationships/slideLayout" Target="../slideLayouts/slideLayout220.xml"/><Relationship Id="rId11" Type="http://schemas.openxmlformats.org/officeDocument/2006/relationships/slideLayout" Target="../slideLayouts/slideLayout221.xml"/><Relationship Id="rId12" Type="http://schemas.openxmlformats.org/officeDocument/2006/relationships/slideLayout" Target="../slideLayouts/slideLayout222.xml"/><Relationship Id="rId13" Type="http://schemas.openxmlformats.org/officeDocument/2006/relationships/slideLayout" Target="../slideLayouts/slideLayout223.xml"/><Relationship Id="rId14" Type="http://schemas.openxmlformats.org/officeDocument/2006/relationships/slideLayout" Target="../slideLayouts/slideLayout224.xml"/><Relationship Id="rId15" Type="http://schemas.openxmlformats.org/officeDocument/2006/relationships/slideLayout" Target="../slideLayouts/slideLayout225.xml"/><Relationship Id="rId16" Type="http://schemas.openxmlformats.org/officeDocument/2006/relationships/slideLayout" Target="../slideLayouts/slideLayout226.xml"/><Relationship Id="rId17" Type="http://schemas.openxmlformats.org/officeDocument/2006/relationships/slideLayout" Target="../slideLayouts/slideLayout227.xml"/><Relationship Id="rId18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49.xml"/><Relationship Id="rId4" Type="http://schemas.openxmlformats.org/officeDocument/2006/relationships/slideLayout" Target="../slideLayouts/slideLayout350.xml"/><Relationship Id="rId5" Type="http://schemas.openxmlformats.org/officeDocument/2006/relationships/slideLayout" Target="../slideLayouts/slideLayout351.xml"/><Relationship Id="rId6" Type="http://schemas.openxmlformats.org/officeDocument/2006/relationships/slideLayout" Target="../slideLayouts/slideLayout352.xml"/><Relationship Id="rId7" Type="http://schemas.openxmlformats.org/officeDocument/2006/relationships/slideLayout" Target="../slideLayouts/slideLayout353.xml"/><Relationship Id="rId8" Type="http://schemas.openxmlformats.org/officeDocument/2006/relationships/slideLayout" Target="../slideLayouts/slideLayout354.xml"/><Relationship Id="rId9" Type="http://schemas.openxmlformats.org/officeDocument/2006/relationships/slideLayout" Target="../slideLayouts/slideLayout355.xml"/><Relationship Id="rId10" Type="http://schemas.openxmlformats.org/officeDocument/2006/relationships/slideLayout" Target="../slideLayouts/slideLayout356.xml"/><Relationship Id="rId11" Type="http://schemas.openxmlformats.org/officeDocument/2006/relationships/slideLayout" Target="../slideLayouts/slideLayout357.xml"/><Relationship Id="rId12" Type="http://schemas.openxmlformats.org/officeDocument/2006/relationships/slideLayout" Target="../slideLayouts/slideLayout358.xml"/><Relationship Id="rId13" Type="http://schemas.openxmlformats.org/officeDocument/2006/relationships/slideLayout" Target="../slideLayouts/slideLayout359.xml"/><Relationship Id="rId14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CAFE7-3AAC-4797-A71A-F8708D235B60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60A1B-4EDB-45A7-8156-37B931943A0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8D7BB-7565-4DA6-96A1-D2367EC583E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6124D-A07C-4185-9711-67B58552ACA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1795C-24AC-40D4-8C7D-F379C4E3436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94613-1DA6-4DF8-A3A9-4ABFBC0FAC2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53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53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54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54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E83C2-7E7F-4979-9C85-D83DFCFB28B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E5551-F998-437E-9AA4-9BDEB9A70F9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867AA-92F3-4440-852C-9795A96324F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9DF39-AE33-460A-A594-D9A769A65B6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63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63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63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64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3CA5B-26AE-4E61-9B34-B67AD58DA67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F8474-B307-44E4-B674-A47884ABD47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59862-9D7B-4226-80AE-13BD45606F7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5CB83-D1BA-46FD-86ED-6710C3E18E0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1364B-DB64-4B2D-B285-ECADE48FEB2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8B2D1-B2BB-4D84-A00D-392D265CBEB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8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779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2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783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6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8" name="文本框 25" descr=""/>
          <p:cNvPicPr/>
          <p:nvPr/>
        </p:nvPicPr>
        <p:blipFill>
          <a:blip r:embed="rId2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799" name="文本框 47" descr=""/>
          <p:cNvPicPr/>
          <p:nvPr/>
        </p:nvPicPr>
        <p:blipFill>
          <a:blip r:embed="rId3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800" name="文本框 49" descr=""/>
          <p:cNvPicPr/>
          <p:nvPr/>
        </p:nvPicPr>
        <p:blipFill>
          <a:blip r:embed="rId4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801" name="文本框 51" descr=""/>
          <p:cNvPicPr/>
          <p:nvPr/>
        </p:nvPicPr>
        <p:blipFill>
          <a:blip r:embed="rId5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802" name="组合 5" descr=""/>
          <p:cNvPicPr/>
          <p:nvPr/>
        </p:nvPicPr>
        <p:blipFill>
          <a:blip r:embed="rId6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E8E7F-6926-440C-BDE3-BDFF0BE1ECA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4DB43-5E10-42C5-95B8-E835A71FE7C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7"/>
    <p:sldLayoutId id="2147483884" r:id="rId8"/>
    <p:sldLayoutId id="2147483885" r:id="rId9"/>
    <p:sldLayoutId id="2147483886" r:id="rId10"/>
    <p:sldLayoutId id="2147483887" r:id="rId11"/>
    <p:sldLayoutId id="2147483888" r:id="rId12"/>
    <p:sldLayoutId id="2147483889" r:id="rId13"/>
    <p:sldLayoutId id="2147483890" r:id="rId14"/>
    <p:sldLayoutId id="2147483891" r:id="rId15"/>
    <p:sldLayoutId id="2147483892" r:id="rId16"/>
    <p:sldLayoutId id="2147483893" r:id="rId17"/>
    <p:sldLayoutId id="2147483894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A8418-4F14-4584-A658-26B4258E0F5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A421B-C36B-44D3-ADA5-B5174CC2425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68F49-3FA1-4320-BB04-86157636CA3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F044D-B9AF-4F8C-BAAE-59152DBD25C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7432B-67C2-4469-BEEF-9CFFCEE5C14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EC1FF-297A-47CB-A07D-3544CC26A64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4ACDE-5C66-4496-A148-A3C39C6F406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807C9-7893-4787-9719-4AFDB6AC8B2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 type="dt" idx="6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B2DE4-EA20-4A7F-96E0-D3426D1610A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 type="ftr" idx="6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 type="sldNum" idx="6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AE902-5113-4BD4-A44C-5162F20C055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101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101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102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102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2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102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7" name="组合 37"/>
          <p:cNvGrpSpPr/>
          <p:nvPr/>
        </p:nvGrpSpPr>
        <p:grpSpPr>
          <a:xfrm>
            <a:off x="6840" y="305280"/>
            <a:ext cx="1312560" cy="1675440"/>
            <a:chOff x="6840" y="305280"/>
            <a:chExt cx="1312560" cy="1675440"/>
          </a:xfrm>
        </p:grpSpPr>
        <p:sp>
          <p:nvSpPr>
            <p:cNvPr id="1028" name="任意多边形: 形状 42"/>
            <p:cNvSpPr/>
            <p:nvPr/>
          </p:nvSpPr>
          <p:spPr>
            <a:xfrm flipH="1" rot="6919800">
              <a:off x="865440" y="135576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任意多边形: 形状 43"/>
            <p:cNvSpPr/>
            <p:nvPr/>
          </p:nvSpPr>
          <p:spPr>
            <a:xfrm flipH="1" rot="6919800">
              <a:off x="258480" y="391680"/>
              <a:ext cx="72864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任意多边形: 形状 44"/>
            <p:cNvSpPr/>
            <p:nvPr/>
          </p:nvSpPr>
          <p:spPr>
            <a:xfrm flipH="1" rot="6919800">
              <a:off x="260640" y="32292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任意多边形: 形状 45"/>
            <p:cNvSpPr/>
            <p:nvPr/>
          </p:nvSpPr>
          <p:spPr>
            <a:xfrm flipH="1" rot="6919800">
              <a:off x="544680" y="842760"/>
              <a:ext cx="40032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任意多边形: 形状 46"/>
            <p:cNvSpPr/>
            <p:nvPr/>
          </p:nvSpPr>
          <p:spPr>
            <a:xfrm flipH="1" rot="6919800">
              <a:off x="824040" y="149004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103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dt" idx="7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E0439-113F-4FF9-B2B0-ED06F28AE52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7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PlaceHolder 5"/>
          <p:cNvSpPr>
            <a:spLocks noGrp="1"/>
          </p:cNvSpPr>
          <p:nvPr>
            <p:ph type="sldNum" idx="7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45086-26F3-45AD-8972-F020BDB5CD0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9" name="组合 5"/>
          <p:cNvGrpSpPr/>
          <p:nvPr/>
        </p:nvGrpSpPr>
        <p:grpSpPr>
          <a:xfrm>
            <a:off x="8055360" y="5725440"/>
            <a:ext cx="1127520" cy="1044000"/>
            <a:chOff x="8055360" y="5725440"/>
            <a:chExt cx="1127520" cy="1044000"/>
          </a:xfrm>
        </p:grpSpPr>
        <p:grpSp>
          <p:nvGrpSpPr>
            <p:cNvPr id="1080" name="组合 43"/>
            <p:cNvGrpSpPr/>
            <p:nvPr/>
          </p:nvGrpSpPr>
          <p:grpSpPr>
            <a:xfrm>
              <a:off x="8456040" y="5725440"/>
              <a:ext cx="597960" cy="968040"/>
              <a:chOff x="8456040" y="5725440"/>
              <a:chExt cx="597960" cy="968040"/>
            </a:xfrm>
          </p:grpSpPr>
          <p:sp>
            <p:nvSpPr>
              <p:cNvPr id="1081" name="任意多边形: 形状 44"/>
              <p:cNvSpPr/>
              <p:nvPr/>
            </p:nvSpPr>
            <p:spPr>
              <a:xfrm rot="15514200">
                <a:off x="8593920" y="632916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任意多边形: 形状 45"/>
              <p:cNvSpPr/>
              <p:nvPr/>
            </p:nvSpPr>
            <p:spPr>
              <a:xfrm rot="15514200">
                <a:off x="8517240" y="5847120"/>
                <a:ext cx="544320" cy="42948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" name="任意多边形: 形状 46"/>
              <p:cNvSpPr/>
              <p:nvPr/>
            </p:nvSpPr>
            <p:spPr>
              <a:xfrm rot="15514200">
                <a:off x="8788680" y="576576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" name="任意多边形: 形状 47"/>
              <p:cNvSpPr/>
              <p:nvPr/>
            </p:nvSpPr>
            <p:spPr>
              <a:xfrm rot="15514200">
                <a:off x="8577720" y="6070680"/>
                <a:ext cx="299160" cy="23868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5" name="任意多边形: 形状 48"/>
              <p:cNvSpPr/>
              <p:nvPr/>
            </p:nvSpPr>
            <p:spPr>
              <a:xfrm rot="15514200">
                <a:off x="8412120" y="6430680"/>
                <a:ext cx="32256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6" name="组合 39"/>
            <p:cNvGrpSpPr/>
            <p:nvPr/>
          </p:nvGrpSpPr>
          <p:grpSpPr>
            <a:xfrm>
              <a:off x="8055360" y="5864040"/>
              <a:ext cx="1127520" cy="905400"/>
              <a:chOff x="8055360" y="5864040"/>
              <a:chExt cx="1127520" cy="905400"/>
            </a:xfrm>
          </p:grpSpPr>
          <p:sp>
            <p:nvSpPr>
              <p:cNvPr id="1087" name="任意多边形: 形状 40"/>
              <p:cNvSpPr/>
              <p:nvPr/>
            </p:nvSpPr>
            <p:spPr>
              <a:xfrm rot="1966800">
                <a:off x="8484840" y="5953320"/>
                <a:ext cx="544680" cy="7261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8" name="任意多边形: 形状 41"/>
              <p:cNvSpPr/>
              <p:nvPr/>
            </p:nvSpPr>
            <p:spPr>
              <a:xfrm rot="1966800">
                <a:off x="8309160" y="644256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2" name="PlaceHolder 3"/>
          <p:cNvSpPr>
            <a:spLocks noGrp="1"/>
          </p:cNvSpPr>
          <p:nvPr>
            <p:ph type="dt" idx="7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2330B-AFF5-40F6-960F-65C376E7C9B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PlaceHolder 4"/>
          <p:cNvSpPr>
            <a:spLocks noGrp="1"/>
          </p:cNvSpPr>
          <p:nvPr>
            <p:ph type="ftr" idx="7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PlaceHolder 5"/>
          <p:cNvSpPr>
            <a:spLocks noGrp="1"/>
          </p:cNvSpPr>
          <p:nvPr>
            <p:ph type="sldNum" idx="7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4958D-17EA-4A93-9A32-772F9B6215B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6" name="PlaceHolder 3"/>
          <p:cNvSpPr>
            <a:spLocks noGrp="1"/>
          </p:cNvSpPr>
          <p:nvPr>
            <p:ph type="dt" idx="7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36953-C8C7-4D5C-AD6D-F1BCD628AA2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PlaceHolder 4"/>
          <p:cNvSpPr>
            <a:spLocks noGrp="1"/>
          </p:cNvSpPr>
          <p:nvPr>
            <p:ph type="ftr" idx="7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PlaceHolder 5"/>
          <p:cNvSpPr>
            <a:spLocks noGrp="1"/>
          </p:cNvSpPr>
          <p:nvPr>
            <p:ph type="sldNum" idx="7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C8FE2-BB3A-4D94-8434-7715BBBD3EB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7" name="组合 25"/>
          <p:cNvGrpSpPr/>
          <p:nvPr/>
        </p:nvGrpSpPr>
        <p:grpSpPr>
          <a:xfrm>
            <a:off x="186120" y="5384520"/>
            <a:ext cx="997920" cy="1126800"/>
            <a:chOff x="186120" y="5384520"/>
            <a:chExt cx="997920" cy="1126800"/>
          </a:xfrm>
        </p:grpSpPr>
        <p:grpSp>
          <p:nvGrpSpPr>
            <p:cNvPr id="1178" name="组合 43"/>
            <p:cNvGrpSpPr/>
            <p:nvPr/>
          </p:nvGrpSpPr>
          <p:grpSpPr>
            <a:xfrm>
              <a:off x="283680" y="5384520"/>
              <a:ext cx="616320" cy="1043640"/>
              <a:chOff x="283680" y="5384520"/>
              <a:chExt cx="616320" cy="1043640"/>
            </a:xfrm>
          </p:grpSpPr>
          <p:sp>
            <p:nvSpPr>
              <p:cNvPr id="1179" name="任意多边形: 形状 44"/>
              <p:cNvSpPr/>
              <p:nvPr/>
            </p:nvSpPr>
            <p:spPr>
              <a:xfrm flipH="1" rot="6865800">
                <a:off x="631080" y="604548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0" name="任意多边形: 形状 45"/>
              <p:cNvSpPr/>
              <p:nvPr/>
            </p:nvSpPr>
            <p:spPr>
              <a:xfrm flipH="1" rot="6865800">
                <a:off x="319320" y="5536800"/>
                <a:ext cx="545040" cy="42948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1" name="任意多边形: 形状 46"/>
              <p:cNvSpPr/>
              <p:nvPr/>
            </p:nvSpPr>
            <p:spPr>
              <a:xfrm flipH="1" rot="6865800">
                <a:off x="421560" y="5435280"/>
                <a:ext cx="221760" cy="1706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2" name="任意多边形: 形状 47"/>
              <p:cNvSpPr/>
              <p:nvPr/>
            </p:nvSpPr>
            <p:spPr>
              <a:xfrm flipH="1" rot="6865800">
                <a:off x="473760" y="5771160"/>
                <a:ext cx="299520" cy="23868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3" name="任意多边形: 形状 48"/>
              <p:cNvSpPr/>
              <p:nvPr/>
            </p:nvSpPr>
            <p:spPr>
              <a:xfrm flipH="1" rot="6865800">
                <a:off x="537480" y="6157800"/>
                <a:ext cx="32328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4" name="组合 39"/>
            <p:cNvGrpSpPr/>
            <p:nvPr/>
          </p:nvGrpSpPr>
          <p:grpSpPr>
            <a:xfrm>
              <a:off x="186120" y="5572440"/>
              <a:ext cx="997920" cy="938880"/>
              <a:chOff x="186120" y="5572440"/>
              <a:chExt cx="997920" cy="938880"/>
            </a:xfrm>
          </p:grpSpPr>
          <p:sp>
            <p:nvSpPr>
              <p:cNvPr id="1185" name="任意多边形: 形状 40"/>
              <p:cNvSpPr/>
              <p:nvPr/>
            </p:nvSpPr>
            <p:spPr>
              <a:xfrm flipH="1" rot="20413200">
                <a:off x="292320" y="5643000"/>
                <a:ext cx="544680" cy="72720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6" name="任意多边形: 形状 41"/>
              <p:cNvSpPr/>
              <p:nvPr/>
            </p:nvSpPr>
            <p:spPr>
              <a:xfrm flipH="1" rot="20413200">
                <a:off x="884520" y="622008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7" name="任意多边形: 形状 42"/>
              <p:cNvSpPr/>
              <p:nvPr/>
            </p:nvSpPr>
            <p:spPr>
              <a:xfrm flipH="1" rot="20413200">
                <a:off x="972000" y="6239520"/>
                <a:ext cx="17460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0" name="PlaceHolder 3"/>
          <p:cNvSpPr>
            <a:spLocks noGrp="1"/>
          </p:cNvSpPr>
          <p:nvPr>
            <p:ph type="dt" idx="7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712BE-27AF-45C2-85CF-B583AF7E6A9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PlaceHolder 4"/>
          <p:cNvSpPr>
            <a:spLocks noGrp="1"/>
          </p:cNvSpPr>
          <p:nvPr>
            <p:ph type="ftr" idx="8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PlaceHolder 5"/>
          <p:cNvSpPr>
            <a:spLocks noGrp="1"/>
          </p:cNvSpPr>
          <p:nvPr>
            <p:ph type="sldNum" idx="8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C7FEA-DE69-448D-9554-8A2B9C08257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4" name="PlaceHolder 3"/>
          <p:cNvSpPr>
            <a:spLocks noGrp="1"/>
          </p:cNvSpPr>
          <p:nvPr>
            <p:ph type="dt" idx="8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73B13-9266-4B54-AC67-52D35A0C48E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PlaceHolder 4"/>
          <p:cNvSpPr>
            <a:spLocks noGrp="1"/>
          </p:cNvSpPr>
          <p:nvPr>
            <p:ph type="ftr" idx="8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PlaceHolder 5"/>
          <p:cNvSpPr>
            <a:spLocks noGrp="1"/>
          </p:cNvSpPr>
          <p:nvPr>
            <p:ph type="sldNum" idx="8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84FDC-04AF-46DF-9DE6-5E02AEB2519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127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127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128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6" name="PlaceHolder 3"/>
          <p:cNvSpPr>
            <a:spLocks noGrp="1"/>
          </p:cNvSpPr>
          <p:nvPr>
            <p:ph type="dt" idx="8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B1788-9342-4020-A85C-40E9F8C9AFD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PlaceHolder 4"/>
          <p:cNvSpPr>
            <a:spLocks noGrp="1"/>
          </p:cNvSpPr>
          <p:nvPr>
            <p:ph type="ftr" idx="8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PlaceHolder 5"/>
          <p:cNvSpPr>
            <a:spLocks noGrp="1"/>
          </p:cNvSpPr>
          <p:nvPr>
            <p:ph type="sldNum" idx="8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96E18-9709-4529-85CB-5FC811CB9A9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C1D34-2951-4AF1-A3E7-B20BD1849241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9EA80-0AF5-4EDC-9A7E-18FF67FE68B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0" name="PlaceHolder 3"/>
          <p:cNvSpPr>
            <a:spLocks noGrp="1"/>
          </p:cNvSpPr>
          <p:nvPr>
            <p:ph type="dt" idx="8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7E1A5-1718-4C20-843D-AF19B205CA0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PlaceHolder 4"/>
          <p:cNvSpPr>
            <a:spLocks noGrp="1"/>
          </p:cNvSpPr>
          <p:nvPr>
            <p:ph type="ftr" idx="8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PlaceHolder 5"/>
          <p:cNvSpPr>
            <a:spLocks noGrp="1"/>
          </p:cNvSpPr>
          <p:nvPr>
            <p:ph type="sldNum" idx="9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AD68E-73D7-40D7-9BA7-0A282207E3E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3"/>
    <p:sldLayoutId id="2147484027" r:id="rId4"/>
    <p:sldLayoutId id="2147484028" r:id="rId5"/>
    <p:sldLayoutId id="2147484029" r:id="rId6"/>
    <p:sldLayoutId id="2147484030" r:id="rId7"/>
    <p:sldLayoutId id="2147484031" r:id="rId8"/>
    <p:sldLayoutId id="2147484032" r:id="rId9"/>
    <p:sldLayoutId id="2147484033" r:id="rId10"/>
    <p:sldLayoutId id="2147484034" r:id="rId11"/>
    <p:sldLayoutId id="2147484035" r:id="rId12"/>
    <p:sldLayoutId id="2147484036" r:id="rId13"/>
    <p:sldLayoutId id="2147484037" r:id="rId14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137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137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7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137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7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137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80" name="组合 5"/>
          <p:cNvGrpSpPr/>
          <p:nvPr/>
        </p:nvGrpSpPr>
        <p:grpSpPr>
          <a:xfrm>
            <a:off x="7144920" y="4414680"/>
            <a:ext cx="2348280" cy="2297160"/>
            <a:chOff x="7144920" y="4414680"/>
            <a:chExt cx="2348280" cy="2297160"/>
          </a:xfrm>
        </p:grpSpPr>
        <p:grpSp>
          <p:nvGrpSpPr>
            <p:cNvPr id="1381" name="组合 49"/>
            <p:cNvGrpSpPr/>
            <p:nvPr/>
          </p:nvGrpSpPr>
          <p:grpSpPr>
            <a:xfrm>
              <a:off x="7652880" y="4414680"/>
              <a:ext cx="1362960" cy="2297160"/>
              <a:chOff x="7652880" y="4414680"/>
              <a:chExt cx="1362960" cy="2297160"/>
            </a:xfrm>
          </p:grpSpPr>
          <p:sp>
            <p:nvSpPr>
              <p:cNvPr id="1382" name="任意多边形: 形状 54"/>
              <p:cNvSpPr/>
              <p:nvPr/>
            </p:nvSpPr>
            <p:spPr>
              <a:xfrm rot="14680200">
                <a:off x="8074440" y="587124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3" name="任意多边形: 形状 55"/>
              <p:cNvSpPr/>
              <p:nvPr/>
            </p:nvSpPr>
            <p:spPr>
              <a:xfrm rot="14680200">
                <a:off x="7736040" y="475200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4" name="任意多边形: 形状 56"/>
              <p:cNvSpPr/>
              <p:nvPr/>
            </p:nvSpPr>
            <p:spPr>
              <a:xfrm rot="14680200">
                <a:off x="8213040" y="452736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5" name="任意多边形: 形状 57"/>
              <p:cNvSpPr/>
              <p:nvPr/>
            </p:nvSpPr>
            <p:spPr>
              <a:xfrm rot="14680200">
                <a:off x="7940160" y="526716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6" name="任意多边形: 形状 58"/>
              <p:cNvSpPr/>
              <p:nvPr/>
            </p:nvSpPr>
            <p:spPr>
              <a:xfrm rot="14680200">
                <a:off x="7761240" y="611820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138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3" name="PlaceHolder 3"/>
          <p:cNvSpPr>
            <a:spLocks noGrp="1"/>
          </p:cNvSpPr>
          <p:nvPr>
            <p:ph type="dt" idx="9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8FC89-FF7D-4D00-82D0-C71CCCFAB81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PlaceHolder 4"/>
          <p:cNvSpPr>
            <a:spLocks noGrp="1"/>
          </p:cNvSpPr>
          <p:nvPr>
            <p:ph type="ftr" idx="9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PlaceHolder 5"/>
          <p:cNvSpPr>
            <a:spLocks noGrp="1"/>
          </p:cNvSpPr>
          <p:nvPr>
            <p:ph type="sldNum" idx="9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793FC-2C61-4A2A-A1AB-52D430B59C1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D0F6A-5A54-4037-9F13-B2879D903B3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F4B43-DB53-4FAA-94D1-0D56C967290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36043-7295-432D-B6FD-DE5F2491FED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3609A-F153-41DE-BBB0-AB41A558841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ACEE5-A2D3-4394-90B6-FDD2C2D9F4F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776AA-F207-4A3C-AB19-B1BF77714F8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5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5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5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15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5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5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5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5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5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5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5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5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5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5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5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5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5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5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5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5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5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2" name="图片 28678" descr=""/>
          <p:cNvPicPr/>
          <p:nvPr/>
        </p:nvPicPr>
        <p:blipFill>
          <a:blip r:embed="rId1"/>
          <a:stretch/>
        </p:blipFill>
        <p:spPr>
          <a:xfrm>
            <a:off x="1585800" y="2506680"/>
            <a:ext cx="5764320" cy="138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9" name="图片 69633" descr=""/>
          <p:cNvPicPr/>
          <p:nvPr/>
        </p:nvPicPr>
        <p:blipFill>
          <a:blip r:embed="rId1"/>
          <a:stretch/>
        </p:blipFill>
        <p:spPr>
          <a:xfrm>
            <a:off x="2038320" y="2395440"/>
            <a:ext cx="5067360" cy="20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0" name="图片 68609" descr=""/>
          <p:cNvPicPr/>
          <p:nvPr/>
        </p:nvPicPr>
        <p:blipFill>
          <a:blip r:embed="rId1"/>
          <a:stretch/>
        </p:blipFill>
        <p:spPr>
          <a:xfrm>
            <a:off x="247680" y="2109960"/>
            <a:ext cx="8648640" cy="2638080"/>
          </a:xfrm>
          <a:prstGeom prst="rect">
            <a:avLst/>
          </a:prstGeom>
          <a:ln w="0">
            <a:noFill/>
          </a:ln>
        </p:spPr>
      </p:pic>
      <p:pic>
        <p:nvPicPr>
          <p:cNvPr id="1451" name="Picture 1" descr=""/>
          <p:cNvPicPr/>
          <p:nvPr/>
        </p:nvPicPr>
        <p:blipFill>
          <a:blip r:embed="rId2"/>
          <a:stretch/>
        </p:blipFill>
        <p:spPr>
          <a:xfrm>
            <a:off x="3851280" y="2637000"/>
            <a:ext cx="865080" cy="438120"/>
          </a:xfrm>
          <a:prstGeom prst="rect">
            <a:avLst/>
          </a:prstGeom>
          <a:ln w="0">
            <a:noFill/>
          </a:ln>
        </p:spPr>
      </p:pic>
      <p:pic>
        <p:nvPicPr>
          <p:cNvPr id="1452" name="Picture 1" descr=""/>
          <p:cNvPicPr/>
          <p:nvPr/>
        </p:nvPicPr>
        <p:blipFill>
          <a:blip r:embed="rId3"/>
          <a:stretch/>
        </p:blipFill>
        <p:spPr>
          <a:xfrm>
            <a:off x="7885080" y="3730680"/>
            <a:ext cx="86508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0" dur="500"/>
                                        <p:tgtEl>
                                          <p:spTgt spid="14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5" dur="500"/>
                                        <p:tgtEl>
                                          <p:spTgt spid="14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3" name="图片 67585" descr=""/>
          <p:cNvPicPr/>
          <p:nvPr/>
        </p:nvPicPr>
        <p:blipFill>
          <a:blip r:embed="rId1"/>
          <a:stretch/>
        </p:blipFill>
        <p:spPr>
          <a:xfrm>
            <a:off x="185760" y="1471680"/>
            <a:ext cx="8772480" cy="3914640"/>
          </a:xfrm>
          <a:prstGeom prst="rect">
            <a:avLst/>
          </a:prstGeom>
          <a:ln w="0">
            <a:noFill/>
          </a:ln>
        </p:spPr>
      </p:pic>
      <p:pic>
        <p:nvPicPr>
          <p:cNvPr id="1454" name="Picture 1" descr=""/>
          <p:cNvPicPr/>
          <p:nvPr/>
        </p:nvPicPr>
        <p:blipFill>
          <a:blip r:embed="rId2"/>
          <a:stretch/>
        </p:blipFill>
        <p:spPr>
          <a:xfrm>
            <a:off x="2282760" y="2637000"/>
            <a:ext cx="504720" cy="438120"/>
          </a:xfrm>
          <a:prstGeom prst="rect">
            <a:avLst/>
          </a:prstGeom>
          <a:ln w="0">
            <a:noFill/>
          </a:ln>
        </p:spPr>
      </p:pic>
      <p:pic>
        <p:nvPicPr>
          <p:cNvPr id="1455" name="Picture 1" descr=""/>
          <p:cNvPicPr/>
          <p:nvPr/>
        </p:nvPicPr>
        <p:blipFill>
          <a:blip r:embed="rId3"/>
          <a:stretch/>
        </p:blipFill>
        <p:spPr>
          <a:xfrm>
            <a:off x="5219640" y="2637000"/>
            <a:ext cx="647640" cy="438120"/>
          </a:xfrm>
          <a:prstGeom prst="rect">
            <a:avLst/>
          </a:prstGeom>
          <a:ln w="0">
            <a:noFill/>
          </a:ln>
        </p:spPr>
      </p:pic>
      <p:pic>
        <p:nvPicPr>
          <p:cNvPr id="1456" name="Picture 1" descr=""/>
          <p:cNvPicPr/>
          <p:nvPr/>
        </p:nvPicPr>
        <p:blipFill>
          <a:blip r:embed="rId4"/>
          <a:stretch/>
        </p:blipFill>
        <p:spPr>
          <a:xfrm>
            <a:off x="1187280" y="3184560"/>
            <a:ext cx="648000" cy="438120"/>
          </a:xfrm>
          <a:prstGeom prst="rect">
            <a:avLst/>
          </a:prstGeom>
          <a:ln w="0">
            <a:noFill/>
          </a:ln>
        </p:spPr>
      </p:pic>
      <p:pic>
        <p:nvPicPr>
          <p:cNvPr id="1457" name="Picture 1" descr=""/>
          <p:cNvPicPr/>
          <p:nvPr/>
        </p:nvPicPr>
        <p:blipFill>
          <a:blip r:embed="rId5"/>
          <a:stretch/>
        </p:blipFill>
        <p:spPr>
          <a:xfrm>
            <a:off x="1979640" y="4307040"/>
            <a:ext cx="1152360" cy="438120"/>
          </a:xfrm>
          <a:prstGeom prst="rect">
            <a:avLst/>
          </a:prstGeom>
          <a:ln w="0">
            <a:noFill/>
          </a:ln>
        </p:spPr>
      </p:pic>
      <p:pic>
        <p:nvPicPr>
          <p:cNvPr id="1458" name="Picture 1" descr=""/>
          <p:cNvPicPr/>
          <p:nvPr/>
        </p:nvPicPr>
        <p:blipFill>
          <a:blip r:embed="rId6"/>
          <a:stretch/>
        </p:blipFill>
        <p:spPr>
          <a:xfrm>
            <a:off x="4427640" y="4292640"/>
            <a:ext cx="647640" cy="438120"/>
          </a:xfrm>
          <a:prstGeom prst="rect">
            <a:avLst/>
          </a:prstGeom>
          <a:ln w="0">
            <a:noFill/>
          </a:ln>
        </p:spPr>
      </p:pic>
      <p:pic>
        <p:nvPicPr>
          <p:cNvPr id="1459" name="Picture 1" descr=""/>
          <p:cNvPicPr/>
          <p:nvPr/>
        </p:nvPicPr>
        <p:blipFill>
          <a:blip r:embed="rId7"/>
          <a:stretch/>
        </p:blipFill>
        <p:spPr>
          <a:xfrm>
            <a:off x="6659640" y="4826160"/>
            <a:ext cx="108108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2" dur="500"/>
                                        <p:tgtEl>
                                          <p:spTgt spid="14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7" dur="500"/>
                                        <p:tgtEl>
                                          <p:spTgt spid="14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1" dur="500"/>
                                        <p:tgtEl>
                                          <p:spTgt spid="14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6" dur="500"/>
                                        <p:tgtEl>
                                          <p:spTgt spid="14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1" dur="500"/>
                                        <p:tgtEl>
                                          <p:spTgt spid="14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6" dur="500"/>
                                        <p:tgtEl>
                                          <p:spTgt spid="14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0" name="图片 66561" descr=""/>
          <p:cNvPicPr/>
          <p:nvPr/>
        </p:nvPicPr>
        <p:blipFill>
          <a:blip r:embed="rId1"/>
          <a:stretch/>
        </p:blipFill>
        <p:spPr>
          <a:xfrm>
            <a:off x="214200" y="1171440"/>
            <a:ext cx="8715600" cy="4515120"/>
          </a:xfrm>
          <a:prstGeom prst="rect">
            <a:avLst/>
          </a:prstGeom>
          <a:ln w="0">
            <a:noFill/>
          </a:ln>
        </p:spPr>
      </p:pic>
      <p:pic>
        <p:nvPicPr>
          <p:cNvPr id="1461" name="Picture 1" descr=""/>
          <p:cNvPicPr/>
          <p:nvPr/>
        </p:nvPicPr>
        <p:blipFill>
          <a:blip r:embed="rId2"/>
          <a:stretch/>
        </p:blipFill>
        <p:spPr>
          <a:xfrm>
            <a:off x="8028000" y="5099040"/>
            <a:ext cx="50472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3" dur="500"/>
                                        <p:tgtEl>
                                          <p:spTgt spid="14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2" name="图片 65537" descr=""/>
          <p:cNvPicPr/>
          <p:nvPr/>
        </p:nvPicPr>
        <p:blipFill>
          <a:blip r:embed="rId1"/>
          <a:stretch/>
        </p:blipFill>
        <p:spPr>
          <a:xfrm>
            <a:off x="662040" y="798480"/>
            <a:ext cx="781992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3" name="图片 64513" descr=""/>
          <p:cNvPicPr/>
          <p:nvPr/>
        </p:nvPicPr>
        <p:blipFill>
          <a:blip r:embed="rId1"/>
          <a:stretch/>
        </p:blipFill>
        <p:spPr>
          <a:xfrm>
            <a:off x="176040" y="677880"/>
            <a:ext cx="8791920" cy="6124680"/>
          </a:xfrm>
          <a:prstGeom prst="rect">
            <a:avLst/>
          </a:prstGeom>
          <a:ln w="0">
            <a:noFill/>
          </a:ln>
        </p:spPr>
      </p:pic>
      <p:pic>
        <p:nvPicPr>
          <p:cNvPr id="1464" name="Picture 1" descr=""/>
          <p:cNvPicPr/>
          <p:nvPr/>
        </p:nvPicPr>
        <p:blipFill>
          <a:blip r:embed="rId2"/>
          <a:stretch/>
        </p:blipFill>
        <p:spPr>
          <a:xfrm>
            <a:off x="7956720" y="1714680"/>
            <a:ext cx="504720" cy="438120"/>
          </a:xfrm>
          <a:prstGeom prst="rect">
            <a:avLst/>
          </a:prstGeom>
          <a:ln w="0">
            <a:noFill/>
          </a:ln>
        </p:spPr>
      </p:pic>
      <p:pic>
        <p:nvPicPr>
          <p:cNvPr id="1465" name="Picture 1" descr=""/>
          <p:cNvPicPr/>
          <p:nvPr/>
        </p:nvPicPr>
        <p:blipFill>
          <a:blip r:embed="rId3"/>
          <a:stretch/>
        </p:blipFill>
        <p:spPr>
          <a:xfrm>
            <a:off x="2268360" y="5589720"/>
            <a:ext cx="935280" cy="438120"/>
          </a:xfrm>
          <a:prstGeom prst="rect">
            <a:avLst/>
          </a:prstGeom>
          <a:ln w="0">
            <a:noFill/>
          </a:ln>
        </p:spPr>
      </p:pic>
      <p:pic>
        <p:nvPicPr>
          <p:cNvPr id="1466" name="Picture 1" descr=""/>
          <p:cNvPicPr/>
          <p:nvPr/>
        </p:nvPicPr>
        <p:blipFill>
          <a:blip r:embed="rId4"/>
          <a:stretch/>
        </p:blipFill>
        <p:spPr>
          <a:xfrm>
            <a:off x="2987640" y="6137280"/>
            <a:ext cx="72072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0" dur="500"/>
                                        <p:tgtEl>
                                          <p:spTgt spid="14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5" dur="500"/>
                                        <p:tgtEl>
                                          <p:spTgt spid="14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0" dur="500"/>
                                        <p:tgtEl>
                                          <p:spTgt spid="14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7" name="图片 63489" descr=""/>
          <p:cNvPicPr/>
          <p:nvPr/>
        </p:nvPicPr>
        <p:blipFill>
          <a:blip r:embed="rId1"/>
          <a:stretch/>
        </p:blipFill>
        <p:spPr>
          <a:xfrm>
            <a:off x="228600" y="1590840"/>
            <a:ext cx="8686800" cy="3676320"/>
          </a:xfrm>
          <a:prstGeom prst="rect">
            <a:avLst/>
          </a:prstGeom>
          <a:ln w="0">
            <a:noFill/>
          </a:ln>
        </p:spPr>
      </p:pic>
      <p:pic>
        <p:nvPicPr>
          <p:cNvPr id="1468" name="Picture 1" descr=""/>
          <p:cNvPicPr/>
          <p:nvPr/>
        </p:nvPicPr>
        <p:blipFill>
          <a:blip r:embed="rId2"/>
          <a:stretch/>
        </p:blipFill>
        <p:spPr>
          <a:xfrm>
            <a:off x="3276720" y="3127320"/>
            <a:ext cx="1150920" cy="438120"/>
          </a:xfrm>
          <a:prstGeom prst="rect">
            <a:avLst/>
          </a:prstGeom>
          <a:ln w="0">
            <a:noFill/>
          </a:ln>
        </p:spPr>
      </p:pic>
      <p:pic>
        <p:nvPicPr>
          <p:cNvPr id="1469" name="Picture 1" descr=""/>
          <p:cNvPicPr/>
          <p:nvPr/>
        </p:nvPicPr>
        <p:blipFill>
          <a:blip r:embed="rId3"/>
          <a:stretch/>
        </p:blipFill>
        <p:spPr>
          <a:xfrm>
            <a:off x="2340000" y="3645000"/>
            <a:ext cx="115092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7" dur="500"/>
                                        <p:tgtEl>
                                          <p:spTgt spid="14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2" dur="500"/>
                                        <p:tgtEl>
                                          <p:spTgt spid="14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0" name="图片 62465" descr=""/>
          <p:cNvPicPr/>
          <p:nvPr/>
        </p:nvPicPr>
        <p:blipFill>
          <a:blip r:embed="rId1"/>
          <a:stretch/>
        </p:blipFill>
        <p:spPr>
          <a:xfrm>
            <a:off x="230040" y="189000"/>
            <a:ext cx="8734680" cy="6200640"/>
          </a:xfrm>
          <a:prstGeom prst="rect">
            <a:avLst/>
          </a:prstGeom>
          <a:ln w="0">
            <a:noFill/>
          </a:ln>
        </p:spPr>
      </p:pic>
      <p:pic>
        <p:nvPicPr>
          <p:cNvPr id="1471" name="Picture 1" descr=""/>
          <p:cNvPicPr/>
          <p:nvPr/>
        </p:nvPicPr>
        <p:blipFill>
          <a:blip r:embed="rId2"/>
          <a:stretch/>
        </p:blipFill>
        <p:spPr>
          <a:xfrm>
            <a:off x="7956720" y="1859040"/>
            <a:ext cx="50472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9" dur="500"/>
                                        <p:tgtEl>
                                          <p:spTgt spid="14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2" name="图片 61441" descr=""/>
          <p:cNvPicPr/>
          <p:nvPr/>
        </p:nvPicPr>
        <p:blipFill>
          <a:blip r:embed="rId1"/>
          <a:stretch/>
        </p:blipFill>
        <p:spPr>
          <a:xfrm>
            <a:off x="271440" y="885960"/>
            <a:ext cx="8601120" cy="5086080"/>
          </a:xfrm>
          <a:prstGeom prst="rect">
            <a:avLst/>
          </a:prstGeom>
          <a:ln w="0">
            <a:noFill/>
          </a:ln>
        </p:spPr>
      </p:pic>
      <p:pic>
        <p:nvPicPr>
          <p:cNvPr id="1473" name="Picture 1" descr=""/>
          <p:cNvPicPr/>
          <p:nvPr/>
        </p:nvPicPr>
        <p:blipFill>
          <a:blip r:embed="rId2"/>
          <a:stretch/>
        </p:blipFill>
        <p:spPr>
          <a:xfrm>
            <a:off x="3132000" y="2549520"/>
            <a:ext cx="505080" cy="438120"/>
          </a:xfrm>
          <a:prstGeom prst="rect">
            <a:avLst/>
          </a:prstGeom>
          <a:ln w="0">
            <a:noFill/>
          </a:ln>
        </p:spPr>
      </p:pic>
      <p:pic>
        <p:nvPicPr>
          <p:cNvPr id="1474" name="Picture 1" descr=""/>
          <p:cNvPicPr/>
          <p:nvPr/>
        </p:nvPicPr>
        <p:blipFill>
          <a:blip r:embed="rId3"/>
          <a:stretch/>
        </p:blipFill>
        <p:spPr>
          <a:xfrm>
            <a:off x="4572000" y="3083040"/>
            <a:ext cx="93672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6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1" dur="500"/>
                                        <p:tgtEl>
                                          <p:spTgt spid="14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5" name="图片 70657" descr=""/>
          <p:cNvPicPr/>
          <p:nvPr/>
        </p:nvPicPr>
        <p:blipFill>
          <a:blip r:embed="rId1"/>
          <a:stretch/>
        </p:blipFill>
        <p:spPr>
          <a:xfrm>
            <a:off x="257040" y="1400040"/>
            <a:ext cx="8629920" cy="40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3" name="图片 60428" descr=""/>
          <p:cNvPicPr/>
          <p:nvPr/>
        </p:nvPicPr>
        <p:blipFill>
          <a:blip r:embed="rId1"/>
          <a:stretch/>
        </p:blipFill>
        <p:spPr>
          <a:xfrm>
            <a:off x="200160" y="1533600"/>
            <a:ext cx="8743680" cy="3790800"/>
          </a:xfrm>
          <a:prstGeom prst="rect">
            <a:avLst/>
          </a:prstGeom>
          <a:ln w="0">
            <a:noFill/>
          </a:ln>
        </p:spPr>
      </p:pic>
      <p:pic>
        <p:nvPicPr>
          <p:cNvPr id="1434" name="Picture 1" descr=""/>
          <p:cNvPicPr/>
          <p:nvPr/>
        </p:nvPicPr>
        <p:blipFill>
          <a:blip r:embed="rId2"/>
          <a:stretch/>
        </p:blipFill>
        <p:spPr>
          <a:xfrm>
            <a:off x="8101080" y="2708280"/>
            <a:ext cx="50472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4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6" name="图片 71681" descr=""/>
          <p:cNvPicPr/>
          <p:nvPr/>
        </p:nvPicPr>
        <p:blipFill>
          <a:blip r:embed="rId1"/>
          <a:stretch/>
        </p:blipFill>
        <p:spPr>
          <a:xfrm>
            <a:off x="190440" y="966960"/>
            <a:ext cx="8763120" cy="4924080"/>
          </a:xfrm>
          <a:prstGeom prst="rect">
            <a:avLst/>
          </a:prstGeom>
          <a:ln w="0">
            <a:noFill/>
          </a:ln>
        </p:spPr>
      </p:pic>
      <p:pic>
        <p:nvPicPr>
          <p:cNvPr id="1477" name="Picture 1" descr=""/>
          <p:cNvPicPr/>
          <p:nvPr/>
        </p:nvPicPr>
        <p:blipFill>
          <a:blip r:embed="rId2"/>
          <a:stretch/>
        </p:blipFill>
        <p:spPr>
          <a:xfrm>
            <a:off x="8028000" y="1643040"/>
            <a:ext cx="50472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8" dur="500"/>
                                        <p:tgtEl>
                                          <p:spTgt spid="14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8" name="图片 72705" descr=""/>
          <p:cNvPicPr/>
          <p:nvPr/>
        </p:nvPicPr>
        <p:blipFill>
          <a:blip r:embed="rId1"/>
          <a:stretch/>
        </p:blipFill>
        <p:spPr>
          <a:xfrm>
            <a:off x="281160" y="2747880"/>
            <a:ext cx="8581680" cy="13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5" name="图片 59410" descr=""/>
          <p:cNvPicPr/>
          <p:nvPr/>
        </p:nvPicPr>
        <p:blipFill>
          <a:blip r:embed="rId1"/>
          <a:stretch/>
        </p:blipFill>
        <p:spPr>
          <a:xfrm>
            <a:off x="214200" y="677880"/>
            <a:ext cx="8715600" cy="5991120"/>
          </a:xfrm>
          <a:prstGeom prst="rect">
            <a:avLst/>
          </a:prstGeom>
          <a:ln w="0">
            <a:noFill/>
          </a:ln>
        </p:spPr>
      </p:pic>
      <p:pic>
        <p:nvPicPr>
          <p:cNvPr id="1436" name="Picture 1" descr=""/>
          <p:cNvPicPr/>
          <p:nvPr/>
        </p:nvPicPr>
        <p:blipFill>
          <a:blip r:embed="rId2"/>
          <a:stretch/>
        </p:blipFill>
        <p:spPr>
          <a:xfrm>
            <a:off x="8028000" y="2335320"/>
            <a:ext cx="50472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" dur="500"/>
                                        <p:tgtEl>
                                          <p:spTgt spid="14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7" name="图片 58373" descr=""/>
          <p:cNvPicPr/>
          <p:nvPr/>
        </p:nvPicPr>
        <p:blipFill>
          <a:blip r:embed="rId1"/>
          <a:stretch/>
        </p:blipFill>
        <p:spPr>
          <a:xfrm>
            <a:off x="243000" y="1309680"/>
            <a:ext cx="8658000" cy="4238640"/>
          </a:xfrm>
          <a:prstGeom prst="rect">
            <a:avLst/>
          </a:prstGeom>
          <a:ln w="0">
            <a:noFill/>
          </a:ln>
        </p:spPr>
      </p:pic>
      <p:pic>
        <p:nvPicPr>
          <p:cNvPr id="1438" name="Picture 1" descr=""/>
          <p:cNvPicPr/>
          <p:nvPr/>
        </p:nvPicPr>
        <p:blipFill>
          <a:blip r:embed="rId2"/>
          <a:stretch/>
        </p:blipFill>
        <p:spPr>
          <a:xfrm>
            <a:off x="8028000" y="1916280"/>
            <a:ext cx="50472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" dur="500"/>
                                        <p:tgtEl>
                                          <p:spTgt spid="14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9" name="图片 57352" descr=""/>
          <p:cNvPicPr/>
          <p:nvPr/>
        </p:nvPicPr>
        <p:blipFill>
          <a:blip r:embed="rId1"/>
          <a:stretch/>
        </p:blipFill>
        <p:spPr>
          <a:xfrm>
            <a:off x="290520" y="1224000"/>
            <a:ext cx="8562960" cy="4410000"/>
          </a:xfrm>
          <a:prstGeom prst="rect">
            <a:avLst/>
          </a:prstGeom>
          <a:ln w="0">
            <a:noFill/>
          </a:ln>
        </p:spPr>
      </p:pic>
      <p:pic>
        <p:nvPicPr>
          <p:cNvPr id="1440" name="Picture 1" descr=""/>
          <p:cNvPicPr/>
          <p:nvPr/>
        </p:nvPicPr>
        <p:blipFill>
          <a:blip r:embed="rId2"/>
          <a:stretch/>
        </p:blipFill>
        <p:spPr>
          <a:xfrm>
            <a:off x="1116000" y="2335320"/>
            <a:ext cx="504720" cy="438120"/>
          </a:xfrm>
          <a:prstGeom prst="rect">
            <a:avLst/>
          </a:prstGeom>
          <a:ln w="0">
            <a:noFill/>
          </a:ln>
        </p:spPr>
      </p:pic>
      <p:pic>
        <p:nvPicPr>
          <p:cNvPr id="1441" name="Picture 1" descr=""/>
          <p:cNvPicPr/>
          <p:nvPr/>
        </p:nvPicPr>
        <p:blipFill>
          <a:blip r:embed="rId3"/>
          <a:stretch/>
        </p:blipFill>
        <p:spPr>
          <a:xfrm>
            <a:off x="2987640" y="2320920"/>
            <a:ext cx="129708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" dur="500"/>
                                        <p:tgtEl>
                                          <p:spTgt spid="14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" dur="500"/>
                                        <p:tgtEl>
                                          <p:spTgt spid="14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2" name="图片 56324" descr=""/>
          <p:cNvPicPr/>
          <p:nvPr/>
        </p:nvPicPr>
        <p:blipFill>
          <a:blip r:embed="rId1"/>
          <a:stretch/>
        </p:blipFill>
        <p:spPr>
          <a:xfrm>
            <a:off x="219240" y="808200"/>
            <a:ext cx="8705520" cy="5429160"/>
          </a:xfrm>
          <a:prstGeom prst="rect">
            <a:avLst/>
          </a:prstGeom>
          <a:ln w="0">
            <a:noFill/>
          </a:ln>
        </p:spPr>
      </p:pic>
      <p:pic>
        <p:nvPicPr>
          <p:cNvPr id="1443" name="Picture 1" descr=""/>
          <p:cNvPicPr/>
          <p:nvPr/>
        </p:nvPicPr>
        <p:blipFill>
          <a:blip r:embed="rId2"/>
          <a:stretch/>
        </p:blipFill>
        <p:spPr>
          <a:xfrm>
            <a:off x="7970760" y="1873080"/>
            <a:ext cx="505080" cy="4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9" dur="500"/>
                                        <p:tgtEl>
                                          <p:spTgt spid="14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4" name="图片 55300" descr=""/>
          <p:cNvPicPr/>
          <p:nvPr/>
        </p:nvPicPr>
        <p:blipFill>
          <a:blip r:embed="rId1"/>
          <a:stretch/>
        </p:blipFill>
        <p:spPr>
          <a:xfrm>
            <a:off x="1081080" y="974880"/>
            <a:ext cx="6981840" cy="51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5" name="图片 54276" descr=""/>
          <p:cNvPicPr/>
          <p:nvPr/>
        </p:nvPicPr>
        <p:blipFill>
          <a:blip r:embed="rId1"/>
          <a:stretch/>
        </p:blipFill>
        <p:spPr>
          <a:xfrm>
            <a:off x="257040" y="870120"/>
            <a:ext cx="8629920" cy="5438520"/>
          </a:xfrm>
          <a:prstGeom prst="rect">
            <a:avLst/>
          </a:prstGeom>
          <a:ln w="0">
            <a:noFill/>
          </a:ln>
        </p:spPr>
      </p:pic>
      <p:pic>
        <p:nvPicPr>
          <p:cNvPr id="1446" name="Picture 1" descr=""/>
          <p:cNvPicPr/>
          <p:nvPr/>
        </p:nvPicPr>
        <p:blipFill>
          <a:blip r:embed="rId2"/>
          <a:stretch/>
        </p:blipFill>
        <p:spPr>
          <a:xfrm>
            <a:off x="8028000" y="3573360"/>
            <a:ext cx="50472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" dur="500"/>
                                        <p:tgtEl>
                                          <p:spTgt spid="14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7" name="图片 52231" descr=""/>
          <p:cNvPicPr/>
          <p:nvPr/>
        </p:nvPicPr>
        <p:blipFill>
          <a:blip r:embed="rId1"/>
          <a:stretch/>
        </p:blipFill>
        <p:spPr>
          <a:xfrm>
            <a:off x="262080" y="739800"/>
            <a:ext cx="8619840" cy="5857920"/>
          </a:xfrm>
          <a:prstGeom prst="rect">
            <a:avLst/>
          </a:prstGeom>
          <a:ln w="0">
            <a:noFill/>
          </a:ln>
        </p:spPr>
      </p:pic>
      <p:pic>
        <p:nvPicPr>
          <p:cNvPr id="1448" name="Picture 1" descr=""/>
          <p:cNvPicPr/>
          <p:nvPr/>
        </p:nvPicPr>
        <p:blipFill>
          <a:blip r:embed="rId2"/>
          <a:stretch/>
        </p:blipFill>
        <p:spPr>
          <a:xfrm>
            <a:off x="8028000" y="3443400"/>
            <a:ext cx="50472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500"/>
                                        <p:tgtEl>
                                          <p:spTgt spid="14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7-14T03:14:31Z</dcterms:modified>
  <cp:revision>2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828</vt:lpwstr>
  </property>
</Properties>
</file>